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B5B5-9665-4B65-868B-9C58F4652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4271-B1C2-4C16-84C9-4AD6BC4E5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81A9-B00A-48D4-A867-72B9526EA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DB93-B2C5-4594-8090-C563EE496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8BAA-3451-460F-A7D5-B5AFA9378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3B82-7573-4997-9E6D-1FCBB3AB3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CF38-727D-4FC4-94B1-1EE1AA294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9215-982B-41B5-97FE-4DC004ABC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1656-9C31-4202-A36C-B3B9DA473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3D57-D4F5-4C1E-87BC-13637247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0704-2ED5-4D13-B13F-3493D1EDF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B87C-368F-4437-87AE-268531C8F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7B4A8-A798-4D1F-86CF-CC7B127D15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MEDIUL LIMBAJULUI DE PROGRAMARE STUDI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Informatică, clasa a X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coordonator Mioara Gheorghe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572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080" indent="0" algn="just">
              <a:spcBef>
                <a:spcPts val="300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in codificarea algoritmului în limbajul de programare ales, obţinem un program. Programul este transmis calculatorului prin introducerea textului de la tastatură (editare) şi memorat într-un fişier sursă cu extensia pas pentru limbajul Pascal (exemplu: program1.cpp) sau extensia cpp pentru limbajul C/C++ (exemplu: program1.cpp)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80" indent="0" algn="just">
              <a:spcBef>
                <a:spcPts val="300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ducere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textului de program din limbajul de programare ales în limbajul intern al calculatorului se face de către compilator prin compilare. Compilatorul realizează și verificarea sintactică a programului, semnalând erorile detectat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rectarea erorilor se face prin editare, de la tastatură, fiind urmată de o nouă compilare. Când textul programului nu mai conţine nicio eroare, compilatorul generează un fişier obiect cu extensia obj (exemplu: program1.obj). Fişierul obiect este executat prin comanda R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80" indent="0" algn="just">
              <a:spcBef>
                <a:spcPts val="300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ntru a oferi programatorilor accesul la fişiere şi la resursele de editare, compilare şi execuţie, au fost dezvoltate mediile de programar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80" indent="0" algn="just">
              <a:spcBef>
                <a:spcPts val="300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atele cu care lucrează un program pot fi memorate în fişierele text. Astfel se asigură păstrarea datelor şi reducerea timpului de operare la testarea/utilizarea programulu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80" indent="0" algn="just">
              <a:spcBef>
                <a:spcPts val="300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 fişier text este format dintr-o succesiune de caractere ASCII scrise pe una sau mai multe linii (rânduri), pe memorie externă (disc). Sfârşitul fişierului este marcat de o etichetă specială: EOF (End Of File). Prelucrarea unui fişier se face prin mai multe operaţii: deschidere (pentru citire sau scriere), citire, scriere, închidere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comp_i"/>
          <p:cNvPicPr/>
          <p:nvPr/>
        </p:nvPicPr>
        <p:blipFill>
          <a:blip r:embed="rId1"/>
          <a:stretch/>
        </p:blipFill>
        <p:spPr>
          <a:xfrm>
            <a:off x="5410080" y="1828800"/>
            <a:ext cx="326736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7925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e propu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 introduc n+m numere natur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ă se formeze mu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ea A din primele n valori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mu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ea B din următoarele m valor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ă se verifice dacă o valoare oarecare x, introdusă de la tastatură, apar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 mu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ii 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ă se formeze mu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ea R ca reuniune dintre mu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ile A și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levi lucrează împreună la un proiect pentru ora de istorie. Fiecare s-a documentat şi a întocmit o listă cu cele mai importante evenimente istorice. În proiect, trebuie prezentat o singură dată fiecare eveniment istoric, în ordine cronologic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Întocm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cele două liste cu cel mult 10 evenimente istor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Verificaţi dacă cele două liste pot fi interclas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bţineţi lista finală prin interclasarea celor două lis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ă se determine dacă un an oarecare, A, aparţine listei de evenime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un program care să rezolve cerinţele de la punctele a,b,c şi 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 cunosc rezultatele la Olimpiada de informatică pentru trei şcoli. Numărul de participanţi din fiecare şcoală este n1,n2, respectiv n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u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un algoritm pentru obţinerea clasamentului fiecărei şcol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u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un algoritm prin care să se obţină clasamentul pentru toate şcol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iza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ficienţa algoritmului propus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Guest</cp:lastModifiedBy>
  <dcterms:modified xsi:type="dcterms:W3CDTF">2012-03-08T12:46:24Z</dcterms:modified>
  <cp:revision>2</cp:revision>
  <dc:subject>CNEE</dc:subject>
  <dc:title>CNE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